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9DB0-75E4-4694-8910-E4FDD0A9D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0D5A-7C83-418A-87C4-F03ED4C22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D8AB-78B5-4E25-9057-477EA50F7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FA8-F233-41A2-A314-A7D0D7A53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758B-892A-4C0B-95A4-94AFE769A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4575-5E6D-48E6-836D-245C51EE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384A-FA13-4C39-9B34-E865590AA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EBE3-DEC6-4927-AEAC-103CA7B4C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B8A1-936E-4025-87AA-1524D0729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DA77-7763-48E2-9325-9B97BC1E1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8684-3F16-45FD-961E-BDA56589D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9D80-6FBF-4803-B7FE-C7A93FD79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518-658A-473C-AE01-6CDFD3E1F56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C40-4A70-480A-902E-5560E8FE5F8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162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Text Box 3" descr=""/>
          <p:cNvPicPr/>
          <p:nvPr/>
        </p:nvPicPr>
        <p:blipFill>
          <a:blip r:embed="rId1"/>
          <a:stretch/>
        </p:blipFill>
        <p:spPr>
          <a:xfrm>
            <a:off x="212760" y="1189080"/>
            <a:ext cx="87915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BAB-EBDC-45E4-B0F0-DBCB019DB7C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5520" y="1057320"/>
            <a:ext cx="898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“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n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we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prescurtat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 este o publicaţie web ce conţine articole periodice, ce au de obicei caracter personal - asemenea unui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jur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fiind afişate în ordine cronologică invers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opul blogurilor variază foarte mult, de la jurnale personale la arme ale campaniilor politice, ale programelor media sau ale diferitelor companii. De asemenea, ele variază şi în funcţie de autor - de la unul singur la o comunitate întreag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Multe webloguri permit vizitatorilor să lase comentarii publice, care pot crea o comunitate de cititori centrată în jurul blogului; altele nu sunt interactive (sunt private).”(http://ro.wikipedia.org/wiki/Weblo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162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89A-6DCA-4005-B593-573E8434180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3600" y="44604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Text Box 3" descr=""/>
          <p:cNvPicPr/>
          <p:nvPr/>
        </p:nvPicPr>
        <p:blipFill>
          <a:blip r:embed="rId1"/>
          <a:stretch/>
        </p:blipFill>
        <p:spPr>
          <a:xfrm>
            <a:off x="201600" y="365040"/>
            <a:ext cx="86184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90520" y="2244600"/>
            <a:ext cx="779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TUTORIAL =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dusul în c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rumu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utilizatorului este controlat pentru formarea unor deprinderi după o strategie stabilită de proiectantul produ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Text Box 5" descr=""/>
          <p:cNvPicPr/>
          <p:nvPr/>
        </p:nvPicPr>
        <p:blipFill>
          <a:blip r:embed="rId2"/>
          <a:stretch/>
        </p:blipFill>
        <p:spPr>
          <a:xfrm>
            <a:off x="237960" y="3713040"/>
            <a:ext cx="8498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FC9-7A49-4CAC-9473-E39F8921EF4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0280" y="176040"/>
            <a:ext cx="85201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VANTAJELE INTEGRĂRII ÎN PROIECT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gregarea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co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ţinutulu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&gt;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apacitatea de a integra mai multe fragmente de conţinut într-o interfaţ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ri de vizualizare personaliz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ţinut personali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Facilităţi de colabor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Localizarea resursel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dependenţa de platform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are modular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36680" y="4405320"/>
            <a:ext cx="832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Observaţie</a:t>
            </a:r>
            <a:r>
              <a:rPr b="1" i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Wiki, blog.. pot deveni portofolii digitale sau spaţii de lucru în grup, permiţând păstrarea legăturii şi după terminarea cur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1"/>
          <a:stretch/>
        </p:blipFill>
        <p:spPr>
          <a:xfrm>
            <a:off x="255600" y="171360"/>
            <a:ext cx="8443800" cy="9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 descriere a Web 2.0 s-ar putea face prin urmatoarele caracteristic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clude o paleta foarte larga de aplicatii si servicii care folosesc Web-ul ca platforma unitara si organizata de comunicar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te construit pe baza unei arhitecturi care încurajeaza participarea activa a utilizatori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rmite interactiunea facila între utilizatorii care au aceleasi interes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este puterea comunitatilor de internaut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dica o schimbare de paradigma în ceea ce priveste Web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DE2-F926-4C43-BDDE-93FAC2A82A2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65040" y="291600"/>
            <a:ext cx="82375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fera utilizatorilor posibilitatea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produce continut, de a-l partaja cu altii, deci o mai puternica interactivita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experienta mult mai apropiata de aplicatiile desktop, cu interfete grafice intuitive, placute, programabile si, mai ales, transparen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iliteaza accesul public la baze de date, prin API-ur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re abilitatea de a conecta între ele diverse aplicatii sau servic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socializa informatia - un concept despre aplicatii si oameni; aparitia instrumentelor colaborative de genul wiki-urilor, a platformelor de socializare ca MySpace, Hi5, LinkedIn sau Second Life, a blogurilor, a structurilor de comunicare de date si documente, a colectiilor de bookmarkuri ( ca del.icio.us sau digg ), de clipuri video ( YouTube ) sau de imagini ( flickr ) etc.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sterea uzabilitatii - îmbunatatirea experientei utilizatorilor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cratizarea continutului si distributia acestuia (continut creat de utilizator si distribuit lib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954C-01BA-4492-8D48-F413061FB94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0-12-03T21:21:47Z</dcterms:modified>
  <cp:revision>226</cp:revision>
  <dc:subject/>
  <dc:title>Presentation Title Goes Here</dc:title>
</cp:coreProperties>
</file>